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E81-A63B-41E7-9279-E7AFD184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E34-1280-4C76-A818-3257486D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C7E-2C34-4112-ACA0-ACFF443D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9BF-D221-4288-A1A2-0A91D374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FCB-4229-4952-93D5-BF5C5EE2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EB8-DE86-44B4-8E01-7A07A58F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361-7647-443A-A062-E6CB6E02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1AC-CF95-44DD-AFDC-1219384E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ED1-0E95-4735-8E24-FB63D36C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B807-8C58-453F-A5E4-79FED7D2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AC9-FB64-4B43-BB5E-8EE505E1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8C3-A732-4B47-8762-6AC52FAA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43db"/>
            </a:gs>
            <a:gs pos="50000">
              <a:srgbClr val="0cdef4"/>
            </a:gs>
            <a:gs pos="100000">
              <a:srgbClr val="ff43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2A1B-2588-46E8-B759-C135B46CF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cartwright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43db"/>
            </a:gs>
            <a:gs pos="50000">
              <a:srgbClr val="0cdef4"/>
            </a:gs>
            <a:gs pos="100000">
              <a:srgbClr val="ff43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38880" y="5105520"/>
            <a:ext cx="1676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ly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2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990720"/>
            <a:ext cx="6933960" cy="4952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3c9f3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Arial Black"/>
              </a:rPr>
              <a:t>Baseb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3c9f3"/>
                  </a:gs>
                  <a:gs pos="100000">
                    <a:srgbClr val="fefef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5410080"/>
            <a:ext cx="4648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my An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3/3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43db"/>
            </a:gs>
            <a:gs pos="50000">
              <a:srgbClr val="0cdef4"/>
            </a:gs>
            <a:gs pos="100000">
              <a:srgbClr val="ff43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artwright"/>
          <p:cNvPicPr/>
          <p:nvPr/>
        </p:nvPicPr>
        <p:blipFill>
          <a:blip r:embed="rId1"/>
          <a:srcRect l="4073" t="0" r="78971" b="0"/>
          <a:stretch/>
        </p:blipFill>
        <p:spPr>
          <a:xfrm>
            <a:off x="5334120" y="2438280"/>
            <a:ext cx="266688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3429000"/>
            <a:ext cx="4495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tw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/28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artwrigh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Cartwright"/>
          <p:cNvPicPr/>
          <p:nvPr/>
        </p:nvPicPr>
        <p:blipFill>
          <a:blip r:embed="rId3"/>
          <a:srcRect l="24588" t="0" r="4913" b="16684"/>
          <a:stretch/>
        </p:blipFill>
        <p:spPr>
          <a:xfrm>
            <a:off x="1752480" y="304920"/>
            <a:ext cx="59436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43db"/>
            </a:gs>
            <a:gs pos="50000">
              <a:srgbClr val="0cdef4"/>
            </a:gs>
            <a:gs pos="100000">
              <a:srgbClr val="ff43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 of American baseball lies in an informal offshoot of the English sport cricket called “rounders,” played in the colonies as early as the mid-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ame was already called baseball in a children’s book of 17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ecial commission of 1907 concluded that baseball had been “invented” by the Civil War hero Abner Doubleday in Cooperstown, New York, in 183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was Alexander Cartwright who established the modern baseball field in 18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val National (1876) and American (1903) Leagues competed in the fist World Series in 1903 and All-Star Games in 193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ame was won by the first team to score 21 ru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43db"/>
            </a:gs>
            <a:gs pos="50000">
              <a:srgbClr val="0cdef4"/>
            </a:gs>
            <a:gs pos="100000">
              <a:srgbClr val="ff43d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Alexander Cartw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Joy Cartwright (1820-189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Cartwright established the modern baseball field in 18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Cartwright lived in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is rules plugging was allo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07Z</dcterms:created>
  <dc:creator>install</dc:creator>
  <dc:description/>
  <dc:language>en-US</dc:language>
  <cp:lastModifiedBy>install</cp:lastModifiedBy>
  <dcterms:modified xsi:type="dcterms:W3CDTF">2011-03-11T18:32:17Z</dcterms:modified>
  <cp:revision>13</cp:revision>
  <dc:subject/>
  <dc:title>Slide 1</dc:title>
</cp:coreProperties>
</file>